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3.jpeg" ContentType="image/jpeg"/>
  <Override PartName="/ppt/media/image3.gif" ContentType="image/gif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1.jpeg" ContentType="image/jpeg"/>
  <Override PartName="/ppt/media/image17.gif" ContentType="image/gif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B89C-6DB9-4B73-8D8F-010240B92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эфемероид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тенистых ельниках не растут эфемерои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в дубраве в июле мы не увидим эфемеро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4E22-98F6-43D3-A2D6-884B8D0853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тицы (ласточки, воробьи, стрижи, вор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994B-2EB6-4FCF-B53D-7A81BFB80A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DC77-B50A-4423-A52D-9DDDC5247C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сные дни птицы лесов пробуждаются раньше, чем в пасмур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E38F-6C6A-4356-8C7C-7740468CA4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ев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мыкающиеся (хотя многие  предпочитают сумер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13EB-5893-4C97-9AB8-DD462BC0A0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очные 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учие мыш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ее становятся кошач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9F02-021B-4D26-8128-095FDB0F12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Ночной образ жизни отражается на внешнем обл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овятся большими глаза (совы, лем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ачок становится щелевидным (кошки, зм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FB08-1BDD-4FF4-8F4C-1BAE951069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итмика освещ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A4F0-A144-4961-832E-F417A57527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ветовой реж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D275-253A-4955-BFEA-9E582733E9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D2B7-A038-4E38-AAF6-264A431524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втор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 образом животные воспринимают св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еагируют животные на изменение освещенности (в течение суток, сезонов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способления животных к жизни в отсутствие све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D606-16A6-4E6E-AFAE-24FFC8D704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летнезелё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е летне-зимнезеленое растение вам известно? Расскажите о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растения относят к вечнозеленым? Почему их так наз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7152-0634-409E-A274-5C8357BC45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ет в жизн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рок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C8A4-544B-4156-BDDE-593CF54006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животные имеют специальные органы зрения –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лаз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С их помощью они различают не только свет и тьму, но и  предметы вокруг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н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ленистоно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оногие моллю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3F3D-2128-49E0-BB39-C23CA37FC8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животные воспринимают св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ерхностью те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нце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DD5E-B616-4F4E-AF00-B6D2447318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не все. Глубоководные рыбы имеют светящиеся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5BA6-279B-4D05-8896-E0EA07686C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солот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ые, живущие без света, часто слабо пигментированы (не окраше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86B6-270A-4E2E-9913-CC7D0E1353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ля чего све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ыскивать пищ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ить за появлением хищ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матривать жер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знавать себе подоб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C4FC-B5C5-4070-B628-D4518F6397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нсивность света непостоянна в течение суток: утром, днем и веч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тому различа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невных и ночн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CB0C-8B19-408B-9B83-4D1095724E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829-7395-4AE6-B703-0A46BED1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2FE-EBB7-400B-8FE8-5222604E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929-F18D-49A6-A01C-80CBFDC3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8B2-8E2B-4D5A-81D3-654B99CC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6A0-0992-4115-9A02-2BD8A7BC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71A-4502-4B59-850F-58D0EB41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235-5FAF-4C28-9711-71EF0038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11A-55EA-4812-88F5-F980A754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A18-EA67-4B0F-91FB-087B243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365-683B-4AD7-B5DF-463CFFDE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052-C427-4012-8A48-C455F40C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CBA-6629-40F7-8A67-25CFD422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02DC-D485-4C1F-A20E-AEF93BC07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45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растения В зависимости от приспособленности к условиям осве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называют эфемероид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енистых ельниках не растут эфемерои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дубраве в июле мы не увидим эфемерои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едуницу нельзя отнести к группе эфемероидов, хотя она цветет одновременно с н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 (ласточки, воробьи, стрижи, воро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6"/>
          <p:cNvPicPr/>
          <p:nvPr/>
        </p:nvPicPr>
        <p:blipFill>
          <a:blip r:embed="rId1"/>
          <a:stretch/>
        </p:blipFill>
        <p:spPr>
          <a:xfrm>
            <a:off x="755640" y="4221000"/>
            <a:ext cx="2733840" cy="19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Рисунок5"/>
          <p:cNvPicPr/>
          <p:nvPr/>
        </p:nvPicPr>
        <p:blipFill>
          <a:blip r:embed="rId2"/>
          <a:stretch/>
        </p:blipFill>
        <p:spPr>
          <a:xfrm>
            <a:off x="3309840" y="2486160"/>
            <a:ext cx="2524320" cy="188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Рисунок7"/>
          <p:cNvPicPr/>
          <p:nvPr/>
        </p:nvPicPr>
        <p:blipFill>
          <a:blip r:embed="rId3"/>
          <a:stretch/>
        </p:blipFill>
        <p:spPr>
          <a:xfrm>
            <a:off x="5580000" y="4437000"/>
            <a:ext cx="3000600" cy="2048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комоядные птицы (мухоловки, пеночки, синицы) добывают пищу днем в глубине леса, утром и вечером – на опушках. Их привлекают насекомые, которые перемещаются в лучше обогреваемы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Рисунок8"/>
          <p:cNvPicPr/>
          <p:nvPr/>
        </p:nvPicPr>
        <p:blipFill>
          <a:blip r:embed="rId1"/>
          <a:stretch/>
        </p:blipFill>
        <p:spPr>
          <a:xfrm>
            <a:off x="468360" y="4149720"/>
            <a:ext cx="2705040" cy="249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Рисунок9"/>
          <p:cNvPicPr/>
          <p:nvPr/>
        </p:nvPicPr>
        <p:blipFill>
          <a:blip r:embed="rId2"/>
          <a:stretch/>
        </p:blipFill>
        <p:spPr>
          <a:xfrm>
            <a:off x="3564000" y="4362480"/>
            <a:ext cx="2114640" cy="249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Рисунок10"/>
          <p:cNvPicPr/>
          <p:nvPr/>
        </p:nvPicPr>
        <p:blipFill>
          <a:blip r:embed="rId3"/>
          <a:stretch/>
        </p:blipFill>
        <p:spPr>
          <a:xfrm>
            <a:off x="6372360" y="4508640"/>
            <a:ext cx="2342880" cy="19144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ясные дни птицы лесов пробуждаются раньше, чем в пасмур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(хотя многие  предпочитают сум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нев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Рисунок12"/>
          <p:cNvPicPr/>
          <p:nvPr/>
        </p:nvPicPr>
        <p:blipFill>
          <a:blip r:embed="rId1"/>
          <a:stretch/>
        </p:blipFill>
        <p:spPr>
          <a:xfrm>
            <a:off x="3492360" y="4149720"/>
            <a:ext cx="1603440" cy="227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Рисунок11"/>
          <p:cNvPicPr/>
          <p:nvPr/>
        </p:nvPicPr>
        <p:blipFill>
          <a:blip r:embed="rId2"/>
          <a:stretch/>
        </p:blipFill>
        <p:spPr>
          <a:xfrm>
            <a:off x="5940360" y="2276640"/>
            <a:ext cx="261936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Рисунок13"/>
          <p:cNvPicPr/>
          <p:nvPr/>
        </p:nvPicPr>
        <p:blipFill>
          <a:blip r:embed="rId3"/>
          <a:stretch/>
        </p:blipFill>
        <p:spPr>
          <a:xfrm>
            <a:off x="6227640" y="4508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учие мы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ивнее становятся коша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Рисунок14"/>
          <p:cNvPicPr/>
          <p:nvPr/>
        </p:nvPicPr>
        <p:blipFill>
          <a:blip r:embed="rId1"/>
          <a:stretch/>
        </p:blipFill>
        <p:spPr>
          <a:xfrm>
            <a:off x="6443640" y="1557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Рисунок15"/>
          <p:cNvPicPr/>
          <p:nvPr/>
        </p:nvPicPr>
        <p:blipFill>
          <a:blip r:embed="rId2"/>
          <a:stretch/>
        </p:blipFill>
        <p:spPr>
          <a:xfrm>
            <a:off x="3564000" y="2205000"/>
            <a:ext cx="1866960" cy="24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Рисунок16"/>
          <p:cNvPicPr/>
          <p:nvPr/>
        </p:nvPicPr>
        <p:blipFill>
          <a:blip r:embed="rId3"/>
          <a:stretch/>
        </p:blipFill>
        <p:spPr>
          <a:xfrm>
            <a:off x="5435640" y="515772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очной образ жизни отражается на внешнем о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новятся большими глаза (совы, лему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рачок становится щелевидным (кошки, зме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Рисунок17"/>
          <p:cNvPicPr/>
          <p:nvPr/>
        </p:nvPicPr>
        <p:blipFill>
          <a:blip r:embed="rId1"/>
          <a:srcRect l="0" t="0" r="0" b="5970"/>
          <a:stretch/>
        </p:blipFill>
        <p:spPr>
          <a:xfrm>
            <a:off x="6156360" y="1557360"/>
            <a:ext cx="2562120" cy="36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18"/>
          <p:cNvPicPr/>
          <p:nvPr/>
        </p:nvPicPr>
        <p:blipFill>
          <a:blip r:embed="rId2"/>
          <a:stretch/>
        </p:blipFill>
        <p:spPr>
          <a:xfrm>
            <a:off x="5724360" y="4292640"/>
            <a:ext cx="2762280" cy="222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Рисунок19"/>
          <p:cNvPicPr/>
          <p:nvPr/>
        </p:nvPicPr>
        <p:blipFill>
          <a:blip r:embed="rId3"/>
          <a:stretch/>
        </p:blipFill>
        <p:spPr>
          <a:xfrm>
            <a:off x="2916360" y="3789360"/>
            <a:ext cx="2323800" cy="283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Рисунок20"/>
          <p:cNvPicPr/>
          <p:nvPr/>
        </p:nvPicPr>
        <p:blipFill>
          <a:blip r:embed="rId4"/>
          <a:stretch/>
        </p:blipFill>
        <p:spPr>
          <a:xfrm>
            <a:off x="539640" y="5013360"/>
            <a:ext cx="2281320" cy="9428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Ритмика освещ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зонное изменение светового режима (летом длиннее дни, зимой ночи) оказывает решающее воздействие на такие биологические явления как размножение, линька, перемещения животных, подготовка к зимовке млекопит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Световой 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авливает географическое распространение некоторых видов животных. В Арктике летом солнце не уходит за горизонт, и наблюдается почти непрерывный летний день. Это позволяет быстро расти молодым животным (их можно кормить круглосуточно). Поэтому в приполярных областях в летние месяцы собирается обильное население пернатых – гуси, утки, чайки. Они строят гнезда, выводят потом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енью короткий день оказывается недостаточным для того, чтобы полноценно обеспечить себя кормом, и птицы улетают на 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м образом животные воспринимают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реагируют животные на изменение освещенности (в течение суток, сезонов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ы приспособления животных к жизни в отсутствие св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летнезелё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летне-зимнезеленое растение вам известно? Расскажите о 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растения относят к вечнозеленым? Почему их так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ми способами человек может создавать наиболее благоприятные условия освещения для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Свет в жизни животны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148000" y="5084280"/>
            <a:ext cx="3416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огие животные имеют специальные органы зрения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з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С их помощью они различают не только свет и тьму, но и  предметы вокруг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истоно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оногие моллю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sh5"/>
          <p:cNvPicPr/>
          <p:nvPr/>
        </p:nvPicPr>
        <p:blipFill>
          <a:blip r:embed="rId1"/>
          <a:stretch/>
        </p:blipFill>
        <p:spPr>
          <a:xfrm>
            <a:off x="4500720" y="3789360"/>
            <a:ext cx="1584000" cy="119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Осьминог"/>
          <p:cNvPicPr/>
          <p:nvPr/>
        </p:nvPicPr>
        <p:blipFill>
          <a:blip r:embed="rId2"/>
          <a:stretch/>
        </p:blipFill>
        <p:spPr>
          <a:xfrm>
            <a:off x="6877080" y="5445000"/>
            <a:ext cx="1511280" cy="108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BUTTRFLY"/>
          <p:cNvPicPr/>
          <p:nvPr/>
        </p:nvPicPr>
        <p:blipFill>
          <a:blip r:embed="rId3"/>
          <a:stretch/>
        </p:blipFill>
        <p:spPr>
          <a:xfrm>
            <a:off x="7020000" y="3645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животные воспринимают св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верхностью тел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нце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Рисунок1"/>
          <p:cNvPicPr/>
          <p:nvPr/>
        </p:nvPicPr>
        <p:blipFill>
          <a:blip r:embed="rId1"/>
          <a:stretch/>
        </p:blipFill>
        <p:spPr>
          <a:xfrm>
            <a:off x="395280" y="4437000"/>
            <a:ext cx="4133880" cy="159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исунок2"/>
          <p:cNvPicPr/>
          <p:nvPr/>
        </p:nvPicPr>
        <p:blipFill>
          <a:blip r:embed="rId2"/>
          <a:stretch/>
        </p:blipFill>
        <p:spPr>
          <a:xfrm>
            <a:off x="5292720" y="515772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животные живут всю жизнь в полной темноте (в норах, пещерах, на больших глубинах) – они утрачивают органы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не все. Глубоководные рыбы имеют светящиеся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нок3"/>
          <p:cNvPicPr/>
          <p:nvPr/>
        </p:nvPicPr>
        <p:blipFill>
          <a:blip r:embed="rId1"/>
          <a:stretch/>
        </p:blipFill>
        <p:spPr>
          <a:xfrm>
            <a:off x="2556000" y="3573360"/>
            <a:ext cx="4178160" cy="2806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0" y="49413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солот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4762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тные, живущие без света, часто слабо пигментированы (не окраш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4"/>
          <p:cNvPicPr/>
          <p:nvPr/>
        </p:nvPicPr>
        <p:blipFill>
          <a:blip r:embed="rId1"/>
          <a:stretch/>
        </p:blipFill>
        <p:spPr>
          <a:xfrm>
            <a:off x="1258920" y="2060640"/>
            <a:ext cx="401940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Для чего свет животны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ыскивать пищ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ить за появлением хищ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матривать жер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познавать себе подоб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HEETAH2"/>
          <p:cNvPicPr/>
          <p:nvPr/>
        </p:nvPicPr>
        <p:blipFill>
          <a:blip r:embed="rId1"/>
          <a:stretch/>
        </p:blipFill>
        <p:spPr>
          <a:xfrm>
            <a:off x="684360" y="5661000"/>
            <a:ext cx="7848360" cy="8524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нсивность света непостоянна в течение суток: утром, днем и веч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му различа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невных и ноч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53:11Z</dcterms:created>
  <dc:creator>user</dc:creator>
  <dc:description/>
  <dc:language>en-US</dc:language>
  <cp:lastModifiedBy>LEGION</cp:lastModifiedBy>
  <dcterms:modified xsi:type="dcterms:W3CDTF">2014-11-24T11:07:55Z</dcterms:modified>
  <cp:revision>29</cp:revision>
  <dc:subject/>
  <dc:title>Слайд 1</dc:title>
</cp:coreProperties>
</file>